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36E-A7A7-4AD7-AF42-663EE6E7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379-5D35-4BEE-95A3-0CE7CB78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52A6F-049B-42EA-9823-5DA99C1C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4AF82-AD64-4230-8DBE-F960BE90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73023-7107-4985-B7B5-C0CA9380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13989-4D5C-49EC-99B2-7C06F31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D8F96-4723-4938-8A32-5D505DC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1F9C5-3564-4AFC-A165-3C91E9B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E541F-69F3-4F5C-82C5-4E62771C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2E361-DD72-4023-9E62-0B99E8AD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3BF5E-439D-43B8-91B9-D4459E40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F2B0A-E07F-47FC-997B-B53CA8E3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00C6-1C05-421D-8CD2-16EBDEDF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FE9F1-F46D-48ED-8C1A-E5E5877D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2A5A7-1188-479B-904C-0AF239A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8A684-A1EB-4F61-B863-971814DF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BA808-1548-484C-9439-E5DE4C73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60758-039E-4001-993D-4394C240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17BAD-FA2A-4877-911E-9A10B76D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9D4FE-358B-461D-A616-28FA217B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A0E98-5B92-474E-8B03-59D8BE69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B7A87-7AF1-4DBB-8F43-D5259D73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DC6D8-4D46-41C0-B20F-1F5B8C60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F83-90B1-416D-9578-F589E543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F1706-BAF9-4CAF-88DF-035C43C3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3C3F8-ACBE-4F70-8CA0-9E599404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02F4B-6490-4271-A075-A594FDC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EF615-F453-4B7E-957A-4D8FF3FB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925D6-D9F9-49B1-9EAF-3247D982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9AD4F-9CFA-4DA4-9C39-9CEDF960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9D8E-C232-4199-9C65-7EC808E9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71BA8-A5A5-4AA1-85AB-B8A1FDB5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57195-72DB-4159-AACA-B59D080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0176A-B5EA-4880-BF79-D6636A14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9FD7-96A6-46B7-B82C-8FDC33FE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3EFA4-27ED-4B5F-8D79-51C5370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5E33-949A-4CC0-A279-43D273DC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85CA7-B5E2-426D-92CE-B65E5D0E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1DCC3-1B87-47C7-950B-94AD1264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1A6AE-D1E8-4A88-9F05-43E80A15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CCD1B-AD64-43B8-A421-F9812545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1BA08-0700-4F13-88D3-61271F56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5212F-13A7-4C84-BB38-6F55B63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C9A5B-A13F-401A-8381-F00BE6F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37061-07D2-463D-8DAE-065EE323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CB7D-9FF6-4C8B-BC94-B81F9191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0572E-AFDA-46B3-BB87-38F8BFC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6DCA8-D4C3-4963-9AAE-2FC26B6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E58BA-898F-4461-8940-15A7A83F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9A151-CB45-43EC-9D34-C00E92F1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775FA-C355-4135-9C7B-A41F2F20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41E07-8282-4F21-BB6D-051695AA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F9F9D-FC93-4FA8-9E1A-6757E51F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C4098-BCBC-4C46-9D7A-2E715FE2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DFF75-B8E5-4391-8E30-B164350C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767F5-B0B3-445C-A3BD-3EDFC840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24E6-9F91-41F0-B881-1CBC445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14027-1019-40A1-AB81-72572DAA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9808C-4C27-4EB3-A23E-84A48B6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7D84C-5593-40CB-A447-F033040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12045-FA24-4239-87BC-FDAA106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1DE52-18B2-4168-B75D-849FB72F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F0BC2-8E13-4100-8A71-2B08695D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A9472-D91A-4637-AAFD-6A548F30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D93A4-CC06-4BDD-BBB2-5F96860D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AB6C8-BDA0-473C-ACB2-A8392249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7F219-B289-4373-8E90-A04BA8C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3D09-C832-41E0-B7E3-CAC340D9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2FA27-CFAF-4D33-B49A-C4AF9CB6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40ABB-F79B-4721-9731-C5921385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31433-5B2F-404C-8210-A28EDF5B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A0D40-30C4-41C2-B793-3F286F6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18DE9-F2AA-4712-831A-F748B02B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16F3F-0308-4FBA-A898-72263923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00486-6FEF-441B-83C5-647BBA8D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DC3C4-702E-4C8F-9F4D-37729DED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5D6DF-4BC7-4363-B84D-EE94A1CE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3A63E-D736-4109-A4B4-016A377B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D668-6DF2-4184-BAEA-05A0D119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F0D97-EAA0-4F02-B86B-D39C39E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1C8F7-B003-44EC-B313-8A65B1AC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FFB7F-CF6E-430F-B750-7902D7C4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ECFF1-6FA4-4CB4-BD24-5143197F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20484-475E-456A-AC49-A4F5033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B1EFC-8B63-4085-8EC7-860B8E3D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7B1A3-6181-4044-9B30-F283C0B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F5771-75BD-4746-89C0-6563005E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A739A-450B-4819-92D1-C4FEC005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EF8EB-BD8D-4CDE-B0BA-2AC63C82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640D-E209-41B5-A8D1-ADE10035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0F3ED-C81A-4830-942C-CBA064A9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6B4BB-E13E-4E0E-8DC7-2616B44A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537EA-2A10-4E6D-A03A-5B5E5880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B0E75F-3DCC-4D4C-A06F-492CB05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490B6-5CBD-44C3-9E78-FD803F28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D681F-0C13-454B-8418-7F2B71FA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A9C45-F45F-4B02-8A31-3BBB5F81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43E44-1910-4C23-8796-7546A8A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4E353-6D44-44A5-9D05-8CA32D2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DCE10-4469-4FA8-9982-CAEA7A0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140D-4FF0-43F3-9D76-0FE1478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37502-F3FD-4468-8954-D00B981B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876D4-4959-46E6-874A-C9F5F613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C04CD-2114-4348-860D-3ECB03AE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E5CF4-837D-48C7-ACA1-1E81CF17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90C54-7EB9-4FD6-B3BC-FABFC842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71780-22A9-4395-839C-447EDBAD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8E59B-640E-4FC8-B5E9-D4700776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C3BFA-4BB1-48B5-A14E-5C2E874F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1198E-D0A3-4944-923B-10CE8F10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6E246-F655-4826-8C0E-AAC384A9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813-B953-4397-BFE0-5B8FABE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DCF-65B8-4DF3-B470-3FCD1FF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DDFA3-0B39-4863-BAE3-DFD9E8FF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E48BD8-9E8C-43A5-ACF5-A51FCE8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66D0A-132B-4FFA-9391-7F7C3BEA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2A09D4-A88F-4BDD-B00B-0A5B3CB9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AE091-ABBD-4206-A877-73D8505A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CA1B5-B995-49A6-8734-45071934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6D053-8609-4319-BA63-571AF12B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13BAA6-3609-4914-8F09-C2D3C4E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AA60C-291B-4B93-97CE-544A79BA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2A35D6-37FD-4D95-B7FB-116D546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6DDB-9AB4-4D8E-AFEA-ACC277DC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FCE91-1BF0-49AA-ADC2-321C0103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71806-163C-4EFD-8154-7BB57A4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65B1A-8C5E-4644-A8A9-91007A7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DFC715-B5E9-4CDE-8CC1-11347E6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2C7EF-6BD5-475A-BB75-26141D5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3DD45-16B1-4ADC-AE17-C498F8B9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15594-6DBD-4273-9849-E42098FF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50844-EEC8-4EC6-8371-81A0EA47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90F55-A8E7-4730-90E6-7289ACCB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CE1F1-3BE5-4DB2-B58B-85CF343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200A-35E2-4739-A8F8-DCF88968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6F6B21-0026-4257-9F53-1A6DC542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C79F7-7A1F-48F6-8A6B-4D3337DC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A59DD-7965-422F-AB26-393C06B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53893-C061-4850-863B-22B3B515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DE7D3-B0B4-43F7-8F79-849B4E7A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0FA2BD-CD27-4B30-8F6B-A53BFF6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9BD2EE-362C-468D-A79F-E3C5A01A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8DF2D-C0E7-4C08-BA65-A223C63E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BB7B7-25E0-4FD1-A6DF-3E982C8F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4F1B6-7C06-48C8-B741-3EB97EF6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B14-9031-46D5-A475-99CE5E17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D963BD-25DF-4A4F-8E1C-12EC152A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94390-72FA-4B0F-8C4D-2190C6AE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65C1C4-9EE0-41D0-BFE5-3880FA68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A3499-BDE3-4B9E-B1FE-09D94E7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9BD1A-4DED-44FA-8F44-F27A4FF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E1C91-602C-4C16-9BFF-264832D6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EB4E66-B48F-4AFB-B13A-17738EA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7B52E-D4C3-4CE0-9B09-12E821AA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144AE-D191-48D0-B1A9-89FCE6A1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2BA3EE-5281-477B-90E5-4124B7A8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CA89-23B6-4784-B307-0BE34529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EC60F9-756A-4E09-BFBA-3C6391DD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198593-6131-4D7D-87A4-9CF0B736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04BA2-9EFC-4314-82A4-E7DA96F4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54694-E7B7-444F-A492-A3283A26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3CBA2-3245-4992-A280-BF45BFC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C0B43-EA12-4974-AF64-ADA597A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498E29-60D5-4D48-A5C6-4929749B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D0EF0-31E2-43B5-A55D-2E37A18A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8F905-C7EE-4E31-94DC-0E755F5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E7E5A3-4A45-43A6-B192-8DFB076B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E600-9C24-4D96-847B-DEBD83E1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A9A3D3-7AA5-4A63-9365-FFD7D7EB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4677F9-3813-47F8-B906-12A205B8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7D6C7-A6E1-49A8-B1C3-0D80E215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80CC91-26B6-4CD4-A7DA-49892503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B59205-11BA-4AAB-B9A4-F3D8DFBD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AD1BA0-62CC-4ED9-BA6E-6F76031B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973FDA-073F-42E7-B4FE-5354052C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40D890-04F3-41EA-892F-A8B851AC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2764F0-5489-4C3E-9515-7BA89BA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68AE95-110A-4A96-85E6-0F1ED67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BE52-FAB5-4925-9B48-C98AA124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D3DAE-D3B2-4CA0-9484-24B380B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2B4519-9E2E-4BE3-97E5-62EA516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8C15D-540E-4778-8753-0A45EEFF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DB74A-BAA5-467D-8A5B-D82373D3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9AF3B-8B2B-4984-BC04-5EA6F076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147C67-7CD6-4D12-8CAF-8A0C0268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3EBD2A-D6D1-4054-ABC6-E2770EF4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51ED03-A865-4175-BB7E-E358D584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197692-E746-4760-8ACD-8CEAF70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19A58-8A9D-40A1-8F78-BA8262C8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F29A-87C4-41F7-8C4F-9E42F54E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755955-9A54-459F-AC3C-60C539D5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2E01B5-EDF4-41C5-8768-52248829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A871EF-E819-4303-B624-8D10DD8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4D2FF0-84A6-4F0D-8793-643CF58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37434D-D5BD-4486-8C83-30A5E7DD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EC57A-5C6B-42A3-BE41-5416F8E1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6F0C35-59BF-4745-87D1-DD75F2B8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DDAB-BEA4-41F7-BA36-D8558EF8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283E-4BD9-4F84-943F-97D56680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CB5-D026-4064-8F1E-B7D350E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9388-301C-4C41-9C7F-C01030DA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BBAB-0292-4965-8583-02D8A72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2D69-5A64-4047-87AD-8348565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18DA-E797-4587-9BA9-D016A762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DEAB-EF99-4E5A-B2A9-F1D7FB3E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9C6E4-AF40-462D-B38E-D0BA0C5C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A488-0408-450D-87CE-4AAC6074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FDBA-7C06-45C2-9B07-3A5135AF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FDB8-7141-4647-A082-DB987509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4D5F-4484-4C17-BD51-E171ACC7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2ED-7935-4B64-8B4B-FDF34A7B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2C03A-4E42-4C7D-92F1-CAF68109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1892-DAB1-4968-8AD5-AD3B80DC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375A-6C53-4944-8B2C-DBEDFCF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025D0-96C6-430B-9401-197F047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C58B-B556-4D39-9C58-FED68A5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5BE5-6883-49CC-9735-B90D50E1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F06D-1F80-4126-B78E-49237A3A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09455-FEEA-4B2B-A7B4-3BE466EA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17A4-054B-45E7-BD66-2C999E31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31DA-4148-494B-8A42-201224A5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3E5-F4A9-4CEA-A20C-ABFD2BF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3270-A396-4A6D-90DB-BE7082D6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70E1-08DB-4DA7-9C7A-A888C55F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A3FCF-B5E3-44C3-8EC5-60A37AB5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D35A4-C825-4146-A9D6-39BE165A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FA9E-F412-4159-ADE7-364E19E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5D680-DF89-4997-A51E-0CA7748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2FAEC-C590-405C-A6CD-2FC62A5D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16399-8978-4B0D-8D6E-81346FF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012B-BB03-4B62-972F-0039C198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D4842-6BF8-4CAE-8405-73A894B3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A0E-9883-4EC7-A1DF-A21C8596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6D6B-BA68-4C3D-9BCB-08A4A131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EC34B-5B61-4BE5-B9B6-1D892051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F429-DCEE-4AF7-922E-7BCA0919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4A71-9A57-4118-8C56-B749C6F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10273-FA72-4FBD-80AD-E77996C5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A17E-5309-4EFA-8592-5804948B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1CF20-6839-40CF-A428-6F067B8E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C23B7-076E-4F12-A82F-08F470F5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7BFBE-0A2A-4890-BC0E-C301A625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BA4A6-A974-4D7B-8579-3D7AF7F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2FB-6969-4CB5-B8A5-D3B6ADF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2F4B5-91A1-4529-8F2C-A13754E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E79DA-80BE-4EFA-A26A-55ED421A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1B3F5-46D1-4390-8F8E-6B056A2B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8352-B6D9-43C1-BFB6-81F3E8B2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0629-A5CF-4730-86DC-13826CE4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06A03-FC55-4F0A-830F-C873562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B93EC-494E-47FA-B56E-2153966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D9D18-F81B-4ED4-A255-8B2A717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48CDB-4EFC-4CDA-8190-9CF1EE82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55C7E-DA2C-4B2E-B2A4-D3AF7FB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010-FFCE-434B-B080-B0B9127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DC11-6FF7-4051-A24F-37CB0C9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6A6CB-1DA9-4427-B266-A67E3794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A265D-9C64-4769-9B36-AC3FAAC0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749B-81D9-408C-8AC7-F5C4CF28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28C58-0343-4045-80CD-FAC90051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49B7-0856-41D8-BB7D-F82898B8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55C8A-4167-4764-8CE8-A09C1438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6D148-63C0-4DE9-BC9A-5F4BD831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B89EA-0324-49C1-B3DB-0419CB2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159EB-FD98-4268-A1CC-5C7503DF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C49-29FC-4BF1-AE80-B5648825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C1E1D-E2E6-4846-9862-B75990B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2670F-5FDC-41C6-AB4A-1AF0EFCF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F5CCF-0C70-479D-9C98-9283C8BF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6A1EB-A252-4BAB-ACDD-80B5A84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E687C-9295-453B-92EA-16409A7D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DF61B-B14B-46C0-9025-ADE7D4D8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E1A56-7440-4A0E-88BA-DEE6CA82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31645-7CCE-4F95-AB81-FA9CF8E0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03671-E3D2-4970-8AF8-7A0B181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C8643-77A7-43D1-B7FA-7BB7D438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1047-C577-41AC-9CC8-9FDF74CFF7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C8CF-F0B9-4D8E-A3FE-B8E61A163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C9DA-D2D8-4C9A-9D64-7D124DF775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24E-A6C1-4B94-BCED-04E8F9E504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5166-FFA2-4491-922D-85BA301A3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1EB6-220A-4F80-BC6F-8747CABE28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0C42-419F-4B40-AE86-EF3099786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01A-42F2-41BF-B94E-F1532B537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676C-E91E-489F-96A0-B2B0DD1BA4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CED-1B8B-416B-A2E9-E6218798A9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8040-0AEB-48E4-A6F0-A9EB877847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7237-F5C4-4AAD-B9ED-DBAB15DD8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9C1E-1303-4BAC-B630-836BDF343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D931-465A-4702-B86E-AA788CD88D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9A86-C07A-46A3-8557-F8FC62AFB8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4D1D-91E2-420F-B824-685C04F81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3D9-7E10-467B-8BC1-BDC67EA5B9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609-05E7-4D96-9A37-7D3743FD0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8949-4BAA-470D-8EB7-56B3D7579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3E35-C607-4380-827C-0A801AAB34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981B-D38F-4F9C-9E66-ABAB1129B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CB8-8E5D-482A-898F-7B6021D32F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7F3F-C761-4E58-8C0F-B201527BEA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13FC-361C-4BDB-8D04-261E87935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E67E-339B-46CA-A2DC-518019A784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EF9F-C45F-4258-B303-D4C2A5AE8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9A8-32DE-4BDE-93DA-CB25B1C82D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552-74C4-4274-AC02-649B824D0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C88-4629-415F-9276-71F1DC66A4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3DE6-8BC6-415F-B388-0E988C42C8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E22-C32D-4D43-9E0F-724437A1F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DE15-23BE-4DAB-ABFF-7F647BEBEC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C52A-4E6B-468F-AF6C-F4BADEF57E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1856-93C0-4C2E-9BD4-6EB0CD5790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ECDB-E271-46A4-8A2B-7E7C2A05B3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2A16-2B0C-41CA-ABBC-D88ADCC194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1690-25F0-488F-AE9A-430B818A0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1A38-497B-42E9-9C43-D435AE054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E34E-56BF-45AC-9407-2CD6857DC4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EB39-F77E-47FD-8766-3B739C7B1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0201-C846-4CF5-B7C8-09736D8833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1973-ECE5-42B2-8358-EAAD04334D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25360" y="3057480"/>
            <a:ext cx="8693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214200" y="841320"/>
            <a:ext cx="8715600" cy="56865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84360" y="522936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611280" y="5905440"/>
            <a:ext cx="763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81080" y="1481040"/>
            <a:ext cx="8781840" cy="188136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2" descr=""/>
          <p:cNvPicPr/>
          <p:nvPr/>
        </p:nvPicPr>
        <p:blipFill>
          <a:blip r:embed="rId2"/>
          <a:stretch/>
        </p:blipFill>
        <p:spPr>
          <a:xfrm>
            <a:off x="1300320" y="3776760"/>
            <a:ext cx="6867360" cy="2286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28288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2771640" y="24354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5435640" y="1916280"/>
            <a:ext cx="8650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5364000" y="2421000"/>
            <a:ext cx="8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7"/>
          <a:stretch/>
        </p:blipFill>
        <p:spPr>
          <a:xfrm>
            <a:off x="8193240" y="193032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8"/>
          <a:stretch/>
        </p:blipFill>
        <p:spPr>
          <a:xfrm>
            <a:off x="8028000" y="244944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9"/>
          <a:stretch/>
        </p:blipFill>
        <p:spPr>
          <a:xfrm>
            <a:off x="3564000" y="443700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0"/>
          <a:stretch/>
        </p:blipFill>
        <p:spPr>
          <a:xfrm>
            <a:off x="3492360" y="5084640"/>
            <a:ext cx="8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1"/>
          <a:stretch/>
        </p:blipFill>
        <p:spPr>
          <a:xfrm>
            <a:off x="6948360" y="4437000"/>
            <a:ext cx="8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2"/>
          <a:stretch/>
        </p:blipFill>
        <p:spPr>
          <a:xfrm>
            <a:off x="6746760" y="5056200"/>
            <a:ext cx="86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1457280"/>
            <a:ext cx="8705520" cy="3943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85720" y="942840"/>
            <a:ext cx="7972560" cy="4972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7580160" y="40622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33280" y="1243080"/>
            <a:ext cx="8677440" cy="4371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57200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3995640" y="4869000"/>
            <a:ext cx="309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585720" y="1962000"/>
            <a:ext cx="7972560" cy="29340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3924360" y="4149720"/>
            <a:ext cx="34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19240" y="1638360"/>
            <a:ext cx="8705520" cy="35812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971640" y="305280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971640" y="4336920"/>
            <a:ext cx="42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71360" y="806400"/>
            <a:ext cx="8801280" cy="59436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2195640" y="623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2987640" y="623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4716360" y="623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5508720" y="623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7236000" y="6237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8028000" y="623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1272" descr=""/>
          <p:cNvPicPr/>
          <p:nvPr/>
        </p:nvPicPr>
        <p:blipFill>
          <a:blip r:embed="rId8"/>
          <a:stretch/>
        </p:blipFill>
        <p:spPr>
          <a:xfrm>
            <a:off x="1558800" y="1571760"/>
            <a:ext cx="67723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438120" y="2019240"/>
            <a:ext cx="8267760" cy="2819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262728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4140360" y="41194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4946760" y="41194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6645240" y="4135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7"/>
          <a:stretch/>
        </p:blipFill>
        <p:spPr>
          <a:xfrm>
            <a:off x="7451640" y="41353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19240" y="1533600"/>
            <a:ext cx="8705520" cy="379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826920" y="378936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042920" y="450864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6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